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F57-AECA-4965-A98C-33AFF6A0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A68-3AA6-4D47-8F66-4577A0CE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E1F-82C6-4F48-817E-93761170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9BC-1AEF-4945-8CB7-BA976D14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04B-3E37-4C6A-8058-1DF41015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03E-9667-4327-B5E8-D98CE63B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855-5704-427E-A028-92F99C14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192-8BA1-4C3A-8D90-CB1A42BD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592-8CD3-4AB5-9F36-5E4AFE3E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D02-2992-49EA-BEFE-4CE5FE3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590-9F90-4030-805B-0E7B87E7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350-C419-491B-BF4F-7984A17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4D7A-5E09-4DC2-A731-683C8C043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o's More Athleti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s vs.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 hypothesis was wrong. The girls got better average scores than the boy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 is more athletic, boys or girl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our school, the boys are always saying they are more athletic and better at sports than the gir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are more professional boy football and baseball players than gir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were more boys in the olympics than girls in most s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re boys have won in the running or throwing s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predict that boys will be more athletic than girls. If the boys are more athletic than others, then they will get better scor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 bo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 gir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pw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igh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ther all materi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how many push ups they can 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free throw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how long they can hold weigh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stair la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arm wrestl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down resul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ajor Observa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people saw the resul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people put their feet against the wall when doing push 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they held the weights was differ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4120" y="523800"/>
            <a:ext cx="9390240" cy="5100840"/>
            <a:chOff x="384120" y="523800"/>
            <a:chExt cx="9390240" cy="5100840"/>
          </a:xfrm>
        </p:grpSpPr>
        <p:sp>
          <p:nvSpPr>
            <p:cNvPr id="59" name=""/>
            <p:cNvSpPr/>
            <p:nvPr/>
          </p:nvSpPr>
          <p:spPr>
            <a:xfrm>
              <a:off x="384120" y="52380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w they were tes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25480" y="523800"/>
              <a:ext cx="134172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sh up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67200" y="52380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ir la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08560" y="52380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igh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49920" y="52380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ee thr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91280" y="52380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arm, arm wrest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32640" y="523800"/>
              <a:ext cx="134172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ft arm, arm wrest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4120" y="2228760"/>
              <a:ext cx="134136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irls aver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25480" y="2228760"/>
              <a:ext cx="134172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67200" y="2228760"/>
              <a:ext cx="134136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08560" y="2228760"/>
              <a:ext cx="134136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:30 m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49920" y="2228760"/>
              <a:ext cx="134136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/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91280" y="2228760"/>
              <a:ext cx="134136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/6 w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32640" y="2228760"/>
              <a:ext cx="134172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/6 w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4120" y="391968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ys aver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25480" y="3919680"/>
              <a:ext cx="134172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67200" y="391968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08560" y="391968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:30 m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49920" y="391968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/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91280" y="391968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/6 w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32640" y="3919680"/>
              <a:ext cx="134172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/6 w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32640" y="52380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32640" y="222876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32640" y="391968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432640" y="562464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412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2548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6720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0856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992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128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3264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7436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412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412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4120" y="52380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412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412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412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2548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2548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2548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412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412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4120" y="222876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25480" y="52380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25480" y="52380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25480" y="52380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6720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6720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6720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25480" y="222876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25480" y="222876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25480" y="222876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6720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6720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67200" y="52380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0856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0856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0856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6720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6720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67200" y="222876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0856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0856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08560" y="52380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992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4992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992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0856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0856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08560" y="222876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992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992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9920" y="52380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9128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9128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9128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992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4992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49920" y="222876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9128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128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91280" y="52380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3264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3264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3264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128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9128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91280" y="222876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2640" y="52380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32640" y="52380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77436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77436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77436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32640" y="222876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32640" y="222876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412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412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412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2548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2548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2548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412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412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120" y="391968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6720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6720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6720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25480" y="391968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25480" y="391968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5480" y="391968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0856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0856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0856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6720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6720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67200" y="391968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4992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4992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4992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0856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0856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08560" y="391968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9128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128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9128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4992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992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49920" y="391968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3264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3264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3264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9128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9128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91280" y="391968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77436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77436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77436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32640" y="391968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32640" y="391968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412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412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2548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2548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12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412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4120" y="562464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6720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720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25480" y="562464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25480" y="562464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5480" y="562464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0856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0856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6720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6720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7200" y="562464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992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992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0856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0856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08560" y="562464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9128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9128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4992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4992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49920" y="562464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3264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3264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9128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9128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280" y="562464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77436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77436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32640" y="562464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32640" y="562464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